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3B14-EA80-41A0-A48A-69405BC8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7945-81A9-4DA7-B7F3-9A907ED60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6CBD-5490-493A-805A-B7C44D812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245A-FFE8-4C9E-A17F-F406947DA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9117-D5CC-40AF-A79F-0A6FD660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1BE-82A4-4B46-B6CD-41D3BEA62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88C9-7013-4A0C-94C4-49BE74879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8717-33E9-4743-BE85-D6994FE4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7DDE-F69F-4287-B9AA-7A576CEE4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9B7-6837-4C56-BB1C-4E61601C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73B-637A-4470-A60B-511F8FF9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75C-5ED6-4C5F-85EE-37FE096F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C81A-B472-4E5F-82F3-CB11C2BF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52D4-4084-45B6-8376-53D705B1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A962-4ED7-4AA4-A8B3-66193195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B9B-0CA7-4EAA-BD51-BB543A8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009-FC13-4833-ABF4-CF99363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EA0C-9F15-401B-A549-804786DF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16A8-F4B5-4A61-AC43-1FF9CA1F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D8F-3F35-4CE2-8024-FB01E23D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4A16-085E-43DE-9322-B87CDA8A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2B63-1A42-4C90-B3CF-71B1E3A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6DC3-ADBC-460B-AA6F-D6AC707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F793-907E-4D18-B88B-5A8C3095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3BAA-DDB5-4D04-83F5-A6407191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FC80-06E7-4F9B-9D8A-CBCDE202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A92-A778-4BF5-AE3D-8168D743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B79-0450-4DE8-A0EC-962BF88D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BFFE-7932-4E5B-A918-18599126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88D-6FF8-43DA-8B61-A3056C32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3EF-03D4-42D3-8751-C797498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68F9-5A37-4381-87E9-7BBD169D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2D85-C845-460E-8E63-1C5FB412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68760" y="-4680"/>
                <a:ext cx="973080" cy="6832800"/>
              </a:xfrm>
              <a:custGeom>
                <a:avLst/>
                <a:gdLst>
                  <a:gd name="textAreaLeft" fmla="*/ -360 w 973080"/>
                  <a:gd name="textAreaRight" fmla="*/ 973080 w 97308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64440" y="1697040"/>
                <a:ext cx="973440" cy="500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72360" y="1278720"/>
                <a:ext cx="973440" cy="5029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72360" y="142920"/>
                <a:ext cx="973440" cy="302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64440" y="989640"/>
                <a:ext cx="973440" cy="3481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66240" y="676800"/>
                <a:ext cx="973440" cy="4327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67320" y="369360"/>
                <a:ext cx="986040" cy="37548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8960" y="3926880"/>
                <a:ext cx="973440" cy="4993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56880" y="3536640"/>
                <a:ext cx="973440" cy="50076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56880" y="2397600"/>
                <a:ext cx="973440" cy="30420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56880" y="3227400"/>
                <a:ext cx="973440" cy="34704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56880" y="2931480"/>
                <a:ext cx="973440" cy="42768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56520" y="2614320"/>
                <a:ext cx="986040" cy="37584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0080"/>
                <a:ext cx="973440" cy="4993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6880" y="4542480"/>
                <a:ext cx="973440" cy="5029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8960" y="5649840"/>
                <a:ext cx="973440" cy="30312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2720"/>
                <a:ext cx="345960" cy="9748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92000"/>
                <a:ext cx="973440" cy="428040"/>
              </a:xfrm>
              <a:custGeom>
                <a:avLst/>
                <a:gdLst>
                  <a:gd name="textAreaLeft" fmla="*/ 360 w 973440"/>
                  <a:gd name="textAreaRight" fmla="*/ 974160 w 97344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0680" y="5879160"/>
                <a:ext cx="986040" cy="375840"/>
              </a:xfrm>
              <a:custGeom>
                <a:avLst/>
                <a:gdLst>
                  <a:gd name="textAreaLeft" fmla="*/ -360 w 986040"/>
                  <a:gd name="textAreaRight" fmla="*/ 986040 w 9860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338D-F24B-4678-B795-D872D595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5560"/>
              <a:chOff x="-3240" y="2479680"/>
              <a:chExt cx="9146880" cy="10155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160"/>
                <a:ext cx="987480" cy="9118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800"/>
                <a:ext cx="987480" cy="6681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708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86400"/>
                <a:ext cx="987480" cy="404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96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960"/>
                <a:ext cx="987480" cy="574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45360"/>
                <a:ext cx="1000080" cy="4996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8920" y="2642040"/>
                <a:ext cx="987120" cy="6678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916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520" y="2778120"/>
                <a:ext cx="987480" cy="404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1040"/>
                <a:ext cx="987480" cy="4662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920"/>
                <a:ext cx="987120" cy="57240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30240"/>
                <a:ext cx="1000080" cy="50112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4080" y="2648160"/>
                <a:ext cx="987480" cy="6678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7080"/>
                <a:ext cx="987480" cy="66960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1280" y="2777040"/>
                <a:ext cx="987120" cy="40428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8892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7480" y="2689560"/>
                <a:ext cx="987120" cy="57276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880"/>
                <a:ext cx="1000080" cy="50148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074D-67D8-4FAC-9F73-C1E691B51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98000"/>
            <a:ext cx="7772400" cy="228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Extremes of </a:t>
            </a:r>
            <a:br>
              <a:rPr sz="7200"/>
            </a:b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US" sz="7200" spc="-1" strike="noStrike">
                <a:solidFill>
                  <a:srgbClr val="003366"/>
                </a:solidFill>
                <a:latin typeface="Times New Roman"/>
              </a:rPr>
              <a:t> Intellige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x. Down Syndro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42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extra genetic material in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rom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0,000 people in U.S. currently aff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n 800-1000 bir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of mother plays a r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25:     1 in 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40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1 in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chromosomes"/>
          <p:cNvPicPr/>
          <p:nvPr/>
        </p:nvPicPr>
        <p:blipFill>
          <a:blip r:embed="rId1"/>
          <a:stretch/>
        </p:blipFill>
        <p:spPr>
          <a:xfrm>
            <a:off x="1905120" y="3733920"/>
            <a:ext cx="5638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hysical Characterist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2880" y="1523880"/>
            <a:ext cx="4846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w muscle t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at facial profile, a somewhat depressed nasal bridge and a small n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lique palpebral fissures, an upward slant to the e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 abnormal shape of the 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single deep crease across the center of the pal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perflexibility, an excessive ability to extend the joi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ysplastic middle phalanx of the fifth finger, fifth finger has one flexion furrow instead of tw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picanthal folds, small skin folds on the inner corner of the ey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cessive space between large and second to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largement of tongue in relationship to size of mou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d"/>
          <p:cNvPicPr/>
          <p:nvPr/>
        </p:nvPicPr>
        <p:blipFill>
          <a:blip r:embed="rId1"/>
          <a:stretch/>
        </p:blipFill>
        <p:spPr>
          <a:xfrm>
            <a:off x="6172200" y="1447920"/>
            <a:ext cx="2435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gnitive Abilit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52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developmental de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ut physical, speech, and developmental therapie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students can be in mainstream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971640" y="2282760"/>
            <a:ext cx="2914560" cy="2293920"/>
            <a:chOff x="971640" y="2282760"/>
            <a:chExt cx="2914560" cy="2293920"/>
          </a:xfrm>
        </p:grpSpPr>
        <p:sp>
          <p:nvSpPr>
            <p:cNvPr id="163" name="Rectangle 9"/>
            <p:cNvSpPr/>
            <p:nvPr/>
          </p:nvSpPr>
          <p:spPr>
            <a:xfrm>
              <a:off x="971640" y="2282760"/>
              <a:ext cx="2914560" cy="229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8"/>
            <p:cNvGrpSpPr/>
            <p:nvPr/>
          </p:nvGrpSpPr>
          <p:grpSpPr>
            <a:xfrm>
              <a:off x="971640" y="2282760"/>
              <a:ext cx="2914560" cy="2293920"/>
              <a:chOff x="971640" y="2282760"/>
              <a:chExt cx="2914560" cy="2293920"/>
            </a:xfrm>
          </p:grpSpPr>
          <p:sp>
            <p:nvSpPr>
              <p:cNvPr id="165" name="Rectangle 5"/>
              <p:cNvSpPr/>
              <p:nvPr/>
            </p:nvSpPr>
            <p:spPr>
              <a:xfrm>
                <a:off x="971640" y="2282760"/>
                <a:ext cx="208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6"/>
              <p:cNvSpPr/>
              <p:nvPr/>
            </p:nvSpPr>
            <p:spPr>
              <a:xfrm>
                <a:off x="971640" y="2282760"/>
                <a:ext cx="2914560" cy="229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-68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32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 </a:t>
                </a:r>
                <a:r>
                  <a:rPr b="1" lang="en-US" sz="2000" spc="-1" strike="noStrike">
                    <a:solidFill>
                      <a:srgbClr val="330066"/>
                    </a:solidFill>
                    <a:latin typeface="Arial"/>
                    <a:ea typeface="Arial"/>
                  </a:rPr>
                  <a:t>                    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Picture 7" descr="adam"/>
          <p:cNvPicPr/>
          <p:nvPr/>
        </p:nvPicPr>
        <p:blipFill>
          <a:blip r:embed="rId1"/>
          <a:stretch/>
        </p:blipFill>
        <p:spPr>
          <a:xfrm>
            <a:off x="1447920" y="1905120"/>
            <a:ext cx="2361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llectual Disability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intellectual and behavioral extreme of the populatio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iftedn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ional mental abilities, upper extreme of the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Only 5%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2% of population has IQ over 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Note: Intellectual Disability is the new term for “Mental Retard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dentifying the Gifted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Matter- High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que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serves Across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s Grey Rather than Black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ight about Aesthetic Awareness and 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ure Sense of Hum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joys Language and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cused- Can Stick with or Beat an Interest or Issue to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Clr>
                <a:srgbClr val="7030a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Source-Jim Lo Giudice; Bucks County 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Giftedness—Positive Behavi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288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es ideas and feeling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ove at a rapid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conscien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learn, explore and seek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teady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135400" y="1447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broad knowledge and an extensive store of vicarious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nsitive to the feelings and right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original contributions to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relationships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3366"/>
                </a:solidFill>
                <a:uFillTx/>
                <a:latin typeface="Times New Roman"/>
              </a:rPr>
              <a:t>Giftedness—Negative Behavi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ib, making fluent statements based on little or no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struggle agains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impatient to proceed to the nex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come bored by re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135040" y="1981080"/>
            <a:ext cx="4008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use humor to manip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dominate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frustrated by apparent lack of relevance or logic in daily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Verdana"/>
              </a:rPr>
              <a:t>Sour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Swassing, Raymo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Verdana"/>
              </a:rPr>
              <a:t>Teaching Gifted Children and Adolescents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</a:rPr>
              <a:t>; 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ild: 70-55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the potential to learn basic cognitive and vocati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somewhat independently i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 70-85 IQ is not Intellectual Disability, but rather “borderline” intellectual functio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Moderate: 55-40 I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learn only limited language usage and self-help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haps very simple vocation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 lot of help in dail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Levels of Intellectual Disabil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 Severe: 40-25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stage, assessment of level is made from behavior instead of IQ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est minimum of ability to learn an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ferred to as “custodial” because they require constant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Profound: Below 25 I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2880" y="45684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riteria for Intellectual Disability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ly sub-average intellectual functioning (assessed by IQ test &lt;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mpairment of adaptive behaviors (self-help ski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ifficulty functioning in everyda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et prior to age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not due to brain injury or adult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8:45:31Z</dcterms:created>
  <dc:creator>amiller</dc:creator>
  <dc:description/>
  <dc:language>en-US</dc:language>
  <cp:lastModifiedBy>John Hampton</cp:lastModifiedBy>
  <dcterms:modified xsi:type="dcterms:W3CDTF">2012-03-02T16:49:05Z</dcterms:modified>
  <cp:revision>7</cp:revision>
  <dc:subject/>
  <dc:title>     Extremes of    Intelligence</dc:title>
</cp:coreProperties>
</file>